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E116-FE55-417B-81A9-F76D4411D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E341-DEFB-464C-A578-ACB78B23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D98D-A6F3-4DDA-846B-7F1CD78C3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D14D-EDAB-470A-BCE7-F51E8B6DB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0674-61A0-4AA8-91ED-D7A9B86B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B7642-06D6-4395-986F-BC08629C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4ADC-A256-403C-BB85-F1CF3D16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688B-03BF-427E-8AB3-6CB8FB53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7EB1-8C8B-4B6C-99F2-79C5ECAF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E45B-7B55-49CE-9847-DEF3F11B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FD9F2-61D4-41E8-96A8-11931676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CF56-7930-491B-BA30-7C76BA02B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5F47-F4EB-41FE-ABA1-05E3DAB5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5D2C-AA4B-4E50-93DD-70103F96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A7CD9-CC67-42E8-8567-5779C99F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A1B3-C9AF-428A-AAEC-70E720EBC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02A9-14FF-43D4-A457-9989F2206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010C-4751-4390-BCA6-9DC3F7A5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FD65-C5EA-4E3C-B2D5-A8314A4D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1ACF-D068-49BF-A481-C0B12F73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B546-E34A-418F-9100-710E9B5E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D78A-D9D0-4992-92A7-51BCF708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CCE9-9AA6-427F-B5A6-4E601112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B9D0-38EA-4FB6-9261-D36A9797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4F6B-C791-482F-94A7-5B7F195E37A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C2BC-B38E-4CCF-97B7-AFBB269EDF7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685440"/>
            <a:ext cx="856908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6699"/>
                </a:solidFill>
                <a:latin typeface="Garamond"/>
              </a:rPr>
              <a:t>НПК – метапредметные цели и задачи в современной школе.</a:t>
            </a:r>
            <a:endParaRPr b="0" lang="en-US" sz="4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42560" y="3284640"/>
            <a:ext cx="7234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Выступление на краевом методическом  семинаре по теме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Verdana"/>
              </a:rPr>
              <a:t>«Инновационные педагогические технологии: Проектная и исследовательская деятельность на уроках и во внеурочное время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Verdana"/>
              </a:rPr>
              <a:t>Яковлева Н.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Garamond"/>
              </a:rPr>
              <a:t>Главное  отличие проектной и исследовательской деятельности – это цель.</a:t>
            </a:r>
            <a:endParaRPr b="0" lang="en-US" sz="32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ль проектной деятельности – реализация проектного замысл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ль исследовательской деятельности - уяснения сущности явлений,  поиск истины, открытие новых закономерностей и т.п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11280" y="47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ект – временная целенаправленная деятельность на получение уникального результа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ектная деятельность является частью самостоятельной работы учащихся. Качественно выполненный проект – это поэтапное планирование своих действий, отслеживание результатов своей работ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Целью проектной деятельности является понимание и применение учащимися знаний, умений и навыков, приобретенных при изучении различных предмет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6868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Задачи проектной деятельности в школе:</a:t>
            </a:r>
            <a:br>
              <a:rPr sz="4000"/>
            </a:b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5280" y="1483920"/>
            <a:ext cx="853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учение планированию (учащийся должен уметь четко определить цель, описать основные шаги по достижению поставленной цели, концентрироваться на достижении цели, на протяжении всей работы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ование навыков сбора и обработки информации, материалов (учащийся должен уметь выбрать подходящую информацию и правильно ее использовать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мение анализировать (креативность и критическое мышление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Задачи проектной деятельности в школе: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мение составлять письменный отчет (учащийся должен уметь составлять план работы, презентовать четко информацию, оформлять сноски, иметь понятие о библиографии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ирование позитивного отношения к работе (учащийся должен проявлять инициативу, энтузиазм, стараться выполнить работу в срок в соответствии с установленным планом и графиком работ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8930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К важным положительным факторам проектной деятельности относятся: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мотивации учащихся при решении задач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итие творческих способносте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мещение акцента от инструментального подхода в решении задач к технологическому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ирование чувства ответственност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ние условий для отношений сотрудни-чества между учителем и учащимс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11280" y="549360"/>
            <a:ext cx="8229600" cy="57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ование чувства ответствен-ности происходит подсознательно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ащийся стремится доказать, в первую очередь, самому себе, что он сделал правильный выбор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ует отметить, что стремление самоутвердиться является главным фактором эффективности проектной деятельност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решении практических задач естественным образом возникают отношения сотрудничества с учител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обенно ярко это проявляется на тех задачах, которые сумел сформулировать сам учащий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11280" y="475920"/>
            <a:ext cx="822960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мотивации и развитие творческих способностей происходит из-за наличия в проектной деятельности ключевого признака – самостоятельного выбора.     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итие творческих способностей и смещение акцента от инструментального подхода к технологическому происходит благодаря необходимости осмысленного выбора инструментария и планирования деятельности  для достижения лучшего результат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11280" y="475920"/>
            <a:ext cx="822960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мотивации и развитие творческих способностей происходит из-за наличия в проектной деятельности ключевого признака – самостоятельного выбора.     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итие творческих способностей и смещение акцента от инструментального подхода к технологическому происходит благодаря необходимости осмысленного выбора инструментария и планирования деятельности  для достижения лучшего результат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11280" y="476280"/>
            <a:ext cx="8229600" cy="67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гласно федеральным образовательным стандартам (ФГОС), одной из форм, способствующих развитию универсальных учебных действий исследовательского характера, является научно-практическая конференц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еренция (от лат. conferre – собирать в одном месте) – это форма коллективного обсуждения и изучения каких-либо актуальных проблем; собрание организаций, групп, а также отдельных лиц для обсуждения и решения определенных вопросо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11280" y="475920"/>
            <a:ext cx="8229600" cy="63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видам конференции подразделяются н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учны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ктически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итические…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ли представляющие синтез этих направлений (научно-практические, общественно-политические и др.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атикой, названием и целями обычно определяется содержание и направленность конференции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3"/>
          <p:cNvSpPr/>
          <p:nvPr/>
        </p:nvSpPr>
        <p:spPr>
          <a:xfrm>
            <a:off x="468360" y="620640"/>
            <a:ext cx="8351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Verdana"/>
              </a:rPr>
              <a:t>«Содержание образовательной программы любой нации определяет её ценности и отражает её надежды, возлагаемые на будущие поколения».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Прямоугольник 4"/>
          <p:cNvSpPr/>
          <p:nvPr/>
        </p:nvSpPr>
        <p:spPr>
          <a:xfrm>
            <a:off x="2771640" y="5445000"/>
            <a:ext cx="61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ДЖО ХАЛЛГАРТЕН, директор по вопросам образования и лидер проекта «Проектирование общей образовательной программы» Королевское общество искусств (RS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11280" y="259920"/>
            <a:ext cx="8229600" cy="62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В процессе подготовки к конференции у школьников формируются навыки целенаправленного наблюдения, постановки эксперимента, они проходят весь путь исследовательской деятельности – от определения проблемы до защиты полученных результатов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2"/>
          <p:cNvSpPr/>
          <p:nvPr/>
        </p:nvSpPr>
        <p:spPr>
          <a:xfrm>
            <a:off x="539640" y="692280"/>
            <a:ext cx="82090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2060"/>
                </a:solidFill>
                <a:uFillTx/>
                <a:latin typeface="Verdana"/>
              </a:rPr>
              <a:t>Метапознание</a:t>
            </a:r>
            <a:r>
              <a:rPr b="0" lang="ru-RU" sz="4000" spc="-1" strike="noStrike">
                <a:solidFill>
                  <a:srgbClr val="002060"/>
                </a:solidFill>
                <a:latin typeface="Verdana"/>
              </a:rPr>
              <a:t>, как следует из самого термина, — это знание человека о своем собственном познании и основанная на этом знании способность управлять своими </a:t>
            </a:r>
            <a:r>
              <a:rPr b="0" i="1" lang="ru-RU" sz="4000" spc="-1" strike="noStrike" u="sng">
                <a:solidFill>
                  <a:srgbClr val="002060"/>
                </a:solidFill>
                <a:uFillTx/>
                <a:latin typeface="Verdana"/>
              </a:rPr>
              <a:t>познавательными процессами</a:t>
            </a:r>
            <a:r>
              <a:rPr b="0" i="1" lang="ru-RU" sz="40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0" lang="ru-RU" sz="4000" spc="-1" strike="noStrike">
                <a:solidFill>
                  <a:srgbClr val="002060"/>
                </a:solidFill>
                <a:latin typeface="Verdana"/>
              </a:rPr>
              <a:t>в ходе приобретения новых знаний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684360" y="549360"/>
            <a:ext cx="7991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На самом деле главное, про что метапознание в школе, — это про возможность </a:t>
            </a:r>
            <a:r>
              <a:rPr b="1" lang="ru-RU" sz="4800" spc="-1" strike="noStrike">
                <a:solidFill>
                  <a:srgbClr val="002060"/>
                </a:solidFill>
                <a:latin typeface="Verdana"/>
              </a:rPr>
              <a:t>индивидуальных траекторий обучения</a:t>
            </a: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358920" y="620640"/>
            <a:ext cx="87850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468360" y="0"/>
            <a:ext cx="84963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Развитие метапознания начинается с двух других вопросов. Прежде всего, с вопроса «Как ты это узнал?»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Это заставляет школьника рефлексировать о том, как работала его память, как работало его внимание, как он мысли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И второй главный вопрос — «Зачем ты это узнал?», то есть для чего ребенку это знание, где оно может быть востребовано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И этот вопрос напрямую выводит нас на проблему мотивации — того самого, чего современному школьнику чаще всего не хватае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3"/>
          <p:cNvSpPr/>
          <p:nvPr/>
        </p:nvSpPr>
        <p:spPr>
          <a:xfrm>
            <a:off x="755640" y="620640"/>
            <a:ext cx="792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«Лучший способ предсказать будущее — вдохновить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новое поколение учеников сделать его лучше»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Прямоугольник 6"/>
          <p:cNvSpPr/>
          <p:nvPr/>
        </p:nvSpPr>
        <p:spPr>
          <a:xfrm>
            <a:off x="3527280" y="5013360"/>
            <a:ext cx="54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ДЖОН АБЕЛЕ, учредитель и председатель Boston Scientific, председатель Argosy Found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Вызовы современности для школы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560" y="148392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Чему должны учиться школьники в эпоху поисковых машин, роботов и искусственного интеллекта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селерация технологий и информационный взрыв породили срочную необходимость переосмыслить систему образования, традиционно основанную на учебном материале. Начиная с глубокого понимания того, как меняются потребности современного общества и работников, эти вызовы призывают нас сделать большой скачок в области образования, чтобы развить глубокие компетенции, включающие актуальные современные знания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4356000" y="621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ТИВ ВИНТЕР, директор, площадка Кэмбридж Goo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8560" y="907560"/>
            <a:ext cx="878508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Изменение роли участников педагогического процесса.</a:t>
            </a:r>
            <a:br>
              <a:rPr sz="4400"/>
            </a:b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98" name="Содержимое 4" descr=""/>
          <p:cNvPicPr/>
          <p:nvPr/>
        </p:nvPicPr>
        <p:blipFill>
          <a:blip r:embed="rId1"/>
          <a:stretch/>
        </p:blipFill>
        <p:spPr>
          <a:xfrm>
            <a:off x="450720" y="1481040"/>
            <a:ext cx="843120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Garamond"/>
              </a:rPr>
              <a:t>Какое место занимает проектная деятельность в реализации ФГОС нового поколения?</a:t>
            </a:r>
            <a:endParaRPr b="0" lang="en-US" sz="32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3640" y="1599840"/>
            <a:ext cx="856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новное отличие нового Стандарта заключается в изменение результатов, которые мы должны получить на выходе (планируемые личностные, предметные  и метапредметные результаты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струментом достижения данных результатов являются универсальные учебные действия (программы формирования УУД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новным подходом формирования УУД, согласно новым Стандартам, является системно-деятельностный подход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им из методов (возможно наиболее эффективным) реализации данного подхода является проектная деятельнос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Требования к результатам освоения ООП: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к получению нового знания в рамках учебного предмета, его преобразованию и применению в учебных, учебно-проектных и социально – проектных ситуациях» (п.8 ФГОС ООО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при итоговом оценивании результатов освоения обучающимися основной образовательной программы основного общего образования должны учитываться сформированность умений выполнения проектной деятельности   и способность к решению учебно-практических и учебно-познавательных задач»    (п.12 ФГОС ООО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1128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4000" spc="-1" strike="noStrike">
                <a:solidFill>
                  <a:srgbClr val="002060"/>
                </a:solidFill>
                <a:latin typeface="Verdana"/>
              </a:rPr>
              <a:t>Фактически, ФГОС требует от учителя помочь школьнику получить представление об основных мыслительных операциях и научиться применять их на практике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1128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Анализ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– при анализе происходит мысленное разложение целого на час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Синтез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– это обратный анализу процесс. При синтезе происходит мысленное объедине­ние частей, свойств, действий в единое целое. Сравнение – это установление сходства или различия между предметами и явлениями или их отдельными признакам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Абстракция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– заключается в выделении каких-либо свойств, признаков изучаемого объ­екта и представление этих признаков, свойств в виде самостоятельного объекта мышл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Конкретизация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– при конкретизации происходит возвращение мысли от общего и абст­рактного к конкретному с целью раскрытия содержа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Обобщение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– мысленное объединение предметов и явлений по их общим и существенным признакам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74872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пецифика  проектной и исследовательской деятельности.</a:t>
            </a:r>
            <a:br>
              <a:rPr sz="4400"/>
            </a:b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557360"/>
          <a:ext cx="8507520" cy="4949640"/>
        </p:xfrm>
        <a:graphic>
          <a:graphicData uri="http://schemas.openxmlformats.org/drawingml/2006/table">
            <a:tbl>
              <a:tblPr/>
              <a:tblGrid>
                <a:gridCol w="4253040"/>
                <a:gridCol w="4254480"/>
              </a:tblGrid>
              <a:tr h="56664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bf0000"/>
                          </a:solidFill>
                          <a:latin typeface="Verdana"/>
                        </a:rPr>
                        <a:t>Проект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bf0000"/>
                          </a:solidFill>
                          <a:latin typeface="Verdana"/>
                        </a:rPr>
                        <a:t>Учебно-исследовательская 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ект направлен на получение конкретного запланированного  результата – продукта, обладающего определенными свойствами, и который необходим для конкретного использовани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ходе исследования организуется поиск в какой-то области, формулируются отдельные характеристики итогов работы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</a:tr>
              <a:tr h="237492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ализацию проектных работ предваряет представление о будущем проекте, планирование процесса создания продукта и реализации этого плана. Результат проекта должен быть точно соотнесен со всеми характеристиками, сформулированными в его замыс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сследование может вывести на результаты, которые не предполагались. Логика построения исследовательской деятельности включает формулировку проблемы исследования, выдвижение гипотезы (для решения этой проблемы) и последующую экспериментальную или модельную проверку выдвинутых предположений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756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правлен на формирование всего комплекса УУ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ируются прежде всего познавательные УУ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5:21:54Z</dcterms:created>
  <dc:creator>Пользователь</dc:creator>
  <dc:description/>
  <dc:language>en-US</dc:language>
  <cp:lastModifiedBy>1</cp:lastModifiedBy>
  <dcterms:modified xsi:type="dcterms:W3CDTF">2018-11-21T17:40:56Z</dcterms:modified>
  <cp:revision>76</cp:revision>
  <dc:subject/>
  <dc:title>«Деление ядер урана»</dc:title>
</cp:coreProperties>
</file>